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C86-DF3B-4A2D-8A20-B60994F9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CC7-1882-447B-BC2A-468197FB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10A-3D9F-4EC6-BE02-52941A72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137-6C7A-4C60-992C-4A255A15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ED5-B7DA-4DF2-BC97-A4C3D7A9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BE0-244A-44BF-86A9-BE727930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EAA-CACF-4D00-8E76-A650E487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C93-7979-405F-8252-9ACD009A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4920-66A5-4921-AE2B-BCF5FCB7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9ED-ED8A-4C18-A26F-F5C497A4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F96-FB78-42BA-97E2-BCAA120C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157-29DD-4848-8144-A0E5FA35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8F26-5A1A-4EEF-B29B-256B2FF1F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2 Pán Ježiš stále k sebe z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stále k sebe z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ch, čo sú znav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odpočinok, pokoj d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rasť v blaho pre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kajúceho hriešnik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ľúdne prijím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ničoho sa neboj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srdci radosť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núka ľahké bremen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jarmo osož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 lásky vodu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 všetkým ochot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š prístup k tomu prameň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ktorý si zran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všetky rany zahoj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j vráti strat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všetkým hovorí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svetlo sveta som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blúdiš, vráť 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ňa hľa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choď vždy v svetle tom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296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Už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echcem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blúdiť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temnotách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ďalej kráčať s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cieľ svoj iste dosiahn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ár jeho uvidí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21:07:40Z</dcterms:modified>
  <cp:revision>20</cp:revision>
  <dc:subject/>
  <dc:title>Je veľký náš Pán, on slávy je Kráľ Nech do všetkých strán  spev vrúcnych znie chvál.</dc:title>
</cp:coreProperties>
</file>